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8999538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A264-2F8E-4662-B660-F7D28F01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0360" y="395352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A558-F682-4F4C-8DAE-A6FE00F5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0152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D09E-A643-4A1B-9165-1D6B29ED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8480" y="159516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8480" y="3953520"/>
            <a:ext cx="260820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6EB-F700-43EB-BFD8-A8CE3A7F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E067-7BE7-4AC9-B088-32032B7F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37C-039A-42DB-9F09-D62641EC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6FD-D678-439D-B969-FAC5E5F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C47-A7E4-4364-B1CA-A76B3216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0360" y="274680"/>
            <a:ext cx="81010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255F-BB25-4F9A-90DC-68DC1754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E985-B4E4-4821-83DC-1782C2FB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01520" y="395352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535-5E4A-4E63-A15E-9F77F254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036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01520" y="1595160"/>
            <a:ext cx="3953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0360" y="3953520"/>
            <a:ext cx="810108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3006-EE60-4FF7-A4A2-CEEA650A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74680"/>
            <a:ext cx="81010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595160"/>
            <a:ext cx="810108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-226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3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88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6229440"/>
            <a:ext cx="21002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229440"/>
            <a:ext cx="28508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6229440"/>
            <a:ext cx="2100240" cy="474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9F516CC5-3942-48C0-8065-3E3E219D4BE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SCN1498"/>
          <p:cNvPicPr/>
          <p:nvPr/>
        </p:nvPicPr>
        <p:blipFill>
          <a:blip r:embed="rId1"/>
          <a:stretch/>
        </p:blipFill>
        <p:spPr>
          <a:xfrm>
            <a:off x="0" y="0"/>
            <a:ext cx="899784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719280" y="719280"/>
            <a:ext cx="755784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 algn="r"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rebuchet MS"/>
              </a:rPr>
              <a:t>Marie-Jeanne DA COL RICHERT U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63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Trebuchet MS"/>
              </a:rPr>
              <a:t>CONGRES SOFEIR NANTES 12-13 MARS 2010 </a:t>
            </a:r>
            <a:r>
              <a:rPr b="1" i="1" lang="en-GB" sz="1700" spc="-1" strike="noStrike">
                <a:solidFill>
                  <a:srgbClr val="000000"/>
                </a:solidFill>
                <a:latin typeface="Trebuchet MS"/>
              </a:rPr>
              <a:t>IRELAND : LANDSCAP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719280" y="2052720"/>
            <a:ext cx="75578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rebuchet MS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Changes in rural and urban landscapes and Irish wome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2800" spc="-1" strike="noStrike">
                <a:solidFill>
                  <a:srgbClr val="ffffff"/>
                </a:solidFill>
                <a:latin typeface="Trebuchet MS"/>
              </a:rPr>
              <a:t>s changing status and role since the 1970s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SCN1528"/>
          <p:cNvPicPr/>
          <p:nvPr/>
        </p:nvPicPr>
        <p:blipFill>
          <a:blip r:embed="rId1"/>
          <a:stretch/>
        </p:blipFill>
        <p:spPr>
          <a:xfrm>
            <a:off x="0" y="0"/>
            <a:ext cx="8997840" cy="68374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ffffff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719280" y="1332000"/>
            <a:ext cx="75578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Secularisation process: the traditional division of roles called into ques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Issue of women’s empowerment in urban and rural Irel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First part: Urban visi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Elimination of discrimination against women in the 1970s; establishment of equality of righ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Removal of marriage bar in </a:t>
            </a: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7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74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Anti-discrimination (Pay)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77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Employment Equality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81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Maternity (Protection of Employees )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2000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Equal Status Act and 2004 Equality 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62% women engaged in domestic duties in </a:t>
            </a: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71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, 41% in </a:t>
            </a: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1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42% women in paid jobs in 1996, 52.5% in </a:t>
            </a: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606060"/>
                </a:solidFill>
                <a:latin typeface="Trebuchet MS"/>
              </a:rPr>
              <a:t>2003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study: legalisation of contraception linked with birth of Celtic Tig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Dramatic increase of women’s presence in developing services sector in urban centres, in greater Dublin area in particu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Visibility of a new female group: the Irish Yupp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719280" y="1332000"/>
            <a:ext cx="75578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Second part: Treading water in rural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Limited access to public services and facilities in rural areas (health care, child care for ex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Invisibility of “helper women”, higher number of “married, widowed and older women” Persistence of women’s traditional r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(yet ICA membership decreasing since the 1970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Disappearance of B&amp;Bs, of local shop and post off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Women under-represented at decision making level, on Health Boards, VECs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Low-paid part time jobs available most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Female poverty increasing as well as number of women at-risk-of-pover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Vulnerable female categories left behi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Picture of rural Ireland almost unchan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000000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19280" y="1332000"/>
            <a:ext cx="75578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Third part: Mobility, the sinews of the post feminist women’s strug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Migration of young educated qualified women from rural to urban Ire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Depopulation of inner cities, development of suburban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City dwellers: commu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New public transport infrastructures in urban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Lack of public transport, of access to Information and Communication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 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in rural are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A case in point: 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Caherciveen in South Ker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The South Kerry Women’s Assoc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	</a:t>
            </a: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Mothers and daughters: widening generation g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</a:rPr>
              <a:t>In Conclus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Growing contrast between urban and rural areas resulting from development of liberal econom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From a woman’s perspective: two worlds ap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Need for research institutions interested in rural wom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1400" spc="-1" strike="noStrike">
                <a:solidFill>
                  <a:srgbClr val="606060"/>
                </a:solidFill>
                <a:latin typeface="Trebuchet MS"/>
              </a:rPr>
              <a:t>Specific consequences of current crisis for Irish women to be stud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134460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URB LANDS PHOTO"/>
          <p:cNvPicPr/>
          <p:nvPr/>
        </p:nvPicPr>
        <p:blipFill>
          <a:blip r:embed="rId1"/>
          <a:stretch/>
        </p:blipFill>
        <p:spPr>
          <a:xfrm>
            <a:off x="0" y="0"/>
            <a:ext cx="8997840" cy="6837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719280" y="719280"/>
            <a:ext cx="755784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1" lang="en-US" sz="1100" spc="-1" strike="noStrike">
                <a:solidFill>
                  <a:srgbClr val="ffffff"/>
                </a:solidFill>
                <a:latin typeface="Trebuchet MS"/>
              </a:rPr>
              <a:t>Changes in rural and urban landscapes and Irish women’s changing status and role since the 1970s</a:t>
            </a:r>
            <a:r>
              <a:rPr b="1" lang="en-GB" sz="1100" spc="-1" strike="noStrike">
                <a:solidFill>
                  <a:srgbClr val="ffffff"/>
                </a:solidFill>
                <a:latin typeface="Trebuchet MS"/>
              </a:rPr>
              <a:t>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8T17:24:26Z</dcterms:created>
  <dc:creator>Laurent DA COL</dc:creator>
  <dc:description/>
  <dc:language>en-US</dc:language>
  <cp:lastModifiedBy>user</cp:lastModifiedBy>
  <dcterms:modified xsi:type="dcterms:W3CDTF">2011-03-10T14:54:30Z</dcterms:modified>
  <cp:revision>36</cp:revision>
  <dc:subject/>
  <dc:title>Diapositive 1</dc:title>
</cp:coreProperties>
</file>