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CFD-8ADB-4D23-B76B-0702B607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95352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214-A063-4810-B717-DBE2D808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52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029-1E96-4558-94EA-F5546F82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48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48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6ED-6489-4A00-863F-A5330504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F93-C6CB-46B6-98B0-46D3D6C4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264-1663-42CC-9A36-3F3E12E9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CE5-2DA5-452E-8CE2-343C5183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9BE-F1A0-4E8B-965C-7F439F44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C28-234D-4868-A1D8-7243CBEF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8DE-07E5-4DCE-8A77-1A600CEE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52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B66-CAF9-4993-A4CB-780055A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E85-AA75-4D30-AD77-A14606ED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6229440"/>
            <a:ext cx="21002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229440"/>
            <a:ext cx="28508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6229440"/>
            <a:ext cx="21002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A939022-279F-473B-9ABA-0A5D3697FE7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SCN1498"/>
          <p:cNvPicPr/>
          <p:nvPr/>
        </p:nvPicPr>
        <p:blipFill>
          <a:blip r:embed="rId1"/>
          <a:stretch/>
        </p:blipFill>
        <p:spPr>
          <a:xfrm>
            <a:off x="0" y="0"/>
            <a:ext cx="899784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19280" y="719280"/>
            <a:ext cx="7557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 algn="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rebuchet MS"/>
              </a:rPr>
              <a:t>Marie-Jeanne DA COL RICHERT U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CONGRES SOFEIR NANTES 12-13 MARS 2010 </a:t>
            </a:r>
            <a:r>
              <a:rPr b="1" i="1" lang="en-GB" sz="1700" spc="-1" strike="noStrike">
                <a:solidFill>
                  <a:srgbClr val="000000"/>
                </a:solidFill>
                <a:latin typeface="Trebuchet MS"/>
              </a:rPr>
              <a:t>IRELAND : LANDSCAP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719280" y="2052720"/>
            <a:ext cx="75578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rebuchet MS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hanges in rural and urban landscapes and Irish wo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 changing status and role since the 1970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SCN1528"/>
          <p:cNvPicPr/>
          <p:nvPr/>
        </p:nvPicPr>
        <p:blipFill>
          <a:blip r:embed="rId1"/>
          <a:stretch/>
        </p:blipFill>
        <p:spPr>
          <a:xfrm>
            <a:off x="0" y="0"/>
            <a:ext cx="8997840" cy="6837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719280" y="719280"/>
            <a:ext cx="7557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n-US" sz="1100" spc="-1" strike="noStrike">
                <a:solidFill>
                  <a:srgbClr val="ffffff"/>
                </a:solidFill>
                <a:latin typeface="Trebuchet MS"/>
              </a:rPr>
              <a:t>Changes in rural and urban landscapes and Irish women’s changing status and role since the 1970s</a:t>
            </a:r>
            <a:r>
              <a:rPr b="1" lang="en-GB" sz="11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19280" y="719280"/>
            <a:ext cx="7557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Changes in rural and urban landscapes and Irish women’s changing status and role since the 1970s</a:t>
            </a: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19280" y="1332000"/>
            <a:ext cx="75578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Secularisation process: the traditional division of roles called into 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Issue of women’s empowerment in urban and rural Irel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First part: Urban vi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Elimination of discrimination against women in the 1970s; establishment of equality of righ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Removal of marriage bar in </a:t>
            </a: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74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Anti-discrimination (Pay)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77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Employment Equality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81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Maternity (Protection of Employees )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2000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Equal Status Act and 2004 Equality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62% women engaged in domestic duties in </a:t>
            </a: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71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, 41% in </a:t>
            </a: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42% women in paid jobs in 1996, 52.5% in </a:t>
            </a: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2003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study: legalisation of contraception linked with birth of Celtic Ti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Dramatic increase of women’s presence in developing services sector in urban centres, in greater Dublin area in part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Visibility of a new female group: the Irish Yupp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19280" y="719280"/>
            <a:ext cx="7557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Changes in rural and urban landscapes and Irish women’s changing status and role since the 1970s</a:t>
            </a: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19280" y="1332000"/>
            <a:ext cx="75578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econd part: Treading water in rural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Limited access to public services and facilities in rural areas (health care, child care for ex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Invisibility of “helper women”, higher number of “married, widowed and older women” Persistence of women’s tradition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(yet ICA membership decreasing since the 1970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Disappearance of B&amp;Bs, of local shop and post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Women under-represented at decision making level, on Health Boards, VECs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Low-paid part time jobs available mos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Female poverty increasing as well as number of women at-risk-of-pove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Vulnerable female categories left beh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Picture of rural Ireland almost un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719280" y="719280"/>
            <a:ext cx="7557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Changes in rural and urban landscapes and Irish women’s changing status and role since the 1970s</a:t>
            </a: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19280" y="1332000"/>
            <a:ext cx="75578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Third part: Mobility, the sinews of the post feminist women’s strug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Migration of young educated qualified women from rural to urban Ire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Depopulation of inner cities, development of suburban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City dwellers: comm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New public transport infrastructures in urban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Lack of public transport, of access to Information and Communication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in rural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A case in point: 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Caherciveen in South Ker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The South Kerry Women’s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Mothers and daughters: widening generation g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In Conclu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Growing contrast between urban and rural areas resulting from development of liberal econ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From a woman’s perspective: two worlds a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Need for research institutions interested in rural wo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Specific consequences of current crisis for Irish women to be stud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URB LANDS PHOTO"/>
          <p:cNvPicPr/>
          <p:nvPr/>
        </p:nvPicPr>
        <p:blipFill>
          <a:blip r:embed="rId1"/>
          <a:stretch/>
        </p:blipFill>
        <p:spPr>
          <a:xfrm>
            <a:off x="0" y="0"/>
            <a:ext cx="8997840" cy="683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19280" y="719280"/>
            <a:ext cx="7557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n-US" sz="1100" spc="-1" strike="noStrike">
                <a:solidFill>
                  <a:srgbClr val="ffffff"/>
                </a:solidFill>
                <a:latin typeface="Trebuchet MS"/>
              </a:rPr>
              <a:t>Changes in rural and urban landscapes and Irish women’s changing status and role since the 1970s</a:t>
            </a:r>
            <a:r>
              <a:rPr b="1" lang="en-GB" sz="11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7:24:26Z</dcterms:created>
  <dc:creator>Laurent DA COL</dc:creator>
  <dc:description/>
  <dc:language>en-US</dc:language>
  <cp:lastModifiedBy>user</cp:lastModifiedBy>
  <dcterms:modified xsi:type="dcterms:W3CDTF">2011-03-10T14:54:30Z</dcterms:modified>
  <cp:revision>36</cp:revision>
  <dc:subject/>
  <dc:title>Diapositive 1</dc:title>
</cp:coreProperties>
</file>